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374-89E7-4281-B2AE-AD80AE2B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486-CEFB-47A6-AEC0-08EDC99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3E4-E508-48B0-A7C3-DDB94A43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78C-DA0B-4719-A97D-CF940057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FC6-A395-4A75-8DB2-CF0F2108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B0E-3D88-4EF1-960F-AA5632E2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050-07D0-414E-B380-DAEE173A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A2F-4DDA-4A99-BD27-80DA5136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97F-01E5-4C72-8390-0CE93D7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803-B8F1-4E20-A715-2B63C8E6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463-7A27-408F-80E6-AD8EB43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4AB-6E1E-45A4-BFC9-E02ECE3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5C1-6730-4797-B9BE-DBDC8C73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Make the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6000" spc="-1" strike="noStrike">
                <a:solidFill>
                  <a:srgbClr val="ff0066"/>
                </a:solidFill>
                <a:latin typeface="Cooper Black"/>
              </a:rPr>
              <a:t>BIGGEST</a:t>
            </a:r>
            <a:r>
              <a:rPr b="0" lang="en-GB" sz="4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GB" sz="4000" spc="-1" strike="noStrike">
                <a:solidFill>
                  <a:srgbClr val="ff0066"/>
                </a:solidFill>
                <a:latin typeface="Cooper Black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48428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1413000"/>
            <a:ext cx="1440000" cy="1584360"/>
          </a:xfrm>
          <a:prstGeom prst="upArrow">
            <a:avLst>
              <a:gd name="adj1" fmla="val 50000"/>
              <a:gd name="adj2" fmla="val 2750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3716280"/>
            <a:ext cx="136872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716280"/>
            <a:ext cx="1368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20000" y="3645000"/>
            <a:ext cx="172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5084640"/>
            <a:ext cx="936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20000" y="3789360"/>
            <a:ext cx="358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316720" y="3789360"/>
            <a:ext cx="43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5229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5229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5445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3716280"/>
            <a:ext cx="136836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5928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1:44:54Z</dcterms:created>
  <dc:creator>LCC</dc:creator>
  <dc:description/>
  <dc:language>en-US</dc:language>
  <cp:lastModifiedBy>LCC</cp:lastModifiedBy>
  <dcterms:modified xsi:type="dcterms:W3CDTF">2007-01-02T12:04:09Z</dcterms:modified>
  <cp:revision>2</cp:revision>
  <dc:subject/>
  <dc:title>Slide 1</dc:title>
</cp:coreProperties>
</file>